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2F8-82F9-4539-B3F9-BEADC279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30D-408D-4F60-B90D-41F8A821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86D-9FB2-4A55-8DBF-655A53A7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9C5-E10D-46F1-91ED-F276541B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E4F9-03C1-4714-B880-1E686A61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AA9C-F095-4368-BFCA-842F4E43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3780-66C7-4B7A-A064-15D2551A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83B2-7518-4B8A-ABCC-E43BB877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AB16-0085-4A1E-BE6F-190C2E5E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040F-D9C1-43CC-93D7-C54FF5F9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859C-5AFC-44B5-B659-F926CEE4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79A-9FE2-4F91-865E-BF212310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9BB1-2FCC-441B-A3B5-5330CDD9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CEB7-EF0A-4A7B-8484-0CAEA892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0EE2-181C-469A-A7CC-5B44E5F1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69E2-705C-450D-98C9-F6F6FB80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DED4-CECC-4AA6-A03A-4F2EDFEF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5BE-F0E7-4077-A534-245BFA8D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BAF-9617-4113-8EA6-37884022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06D-988D-44E0-9019-7150E430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E8D-9B36-4307-A867-57499E38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ACE-EC86-40E5-B4FF-9211C707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1BD-EC81-47D9-8ECF-ECFA38BC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3A0-948E-4615-91EC-4888E2A6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169D-566C-480D-BFAF-536BD9917C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F47B-3F2F-41A7-85C7-B51DCB242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Bradley Hand ITC TT-Bold"/>
              </a:rPr>
              <a:t>Le Passif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 TT-Bold"/>
              </a:rPr>
              <a:t>...getting to know the Passive Voice in Frenc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Bradley Hand ITC TT-Bold"/>
              </a:rPr>
              <a:t>Change from Active to Passive.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Un tunnel a relié la Grande-Bretagne au continent en 199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On construira plus tard un lien routi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On avait annoncé la décision à Li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Le Président a souligné l’importance de la déci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La Grande-Bretagne a été reliée au continent en 1993 par un tunn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Un lien routier sera construit plus t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La décision avait été annoncée à Li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L’importance de la décision a été soulignée par le Prési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Bradley Hand ITC TT-Bold"/>
              </a:rPr>
              <a:t>Not too hard, yet...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The French have a tendency of avoiding the Passive,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Using ‘on’ + the ac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a déjà oublié cet évén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(This event has already been forgotten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By using a reflex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Cela ne se dit pas i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(That is not said here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Bradley Hand ITC TT-Bold"/>
              </a:rPr>
              <a:t>Change to on + active or a reflexive...</a:t>
            </a:r>
            <a:endParaRPr b="0" lang="en-US" sz="32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Cela n’est pas vendu en F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a carte a été envoyé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e travail a été fi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e gouvernement est composé de trois partis principau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Cela ne se vend pas en F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a envoyé la car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a fini le trava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e gouvernement se compose de trois partis principau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Bradley Hand ITC TT-Bold"/>
              </a:rPr>
              <a:t>NB...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In French, an Indirect object can’t be the subject of a passive ver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We can say, for example, “I have been given a present.” However, in French, you must say, “On m’a donné un cadeau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This is the case in French with verbs requiring the preposition ‘à’. In English, we could say, “The letter was answered.” In French, this is, “On a répondu à la lettr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Bradley Hand ITC TT-Bold"/>
              </a:rPr>
              <a:t>To learn!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m’a dit qu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m’a demandé d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m’a donné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m’a conseillé d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I have been told tha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I have been asked to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I have been given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I have been advised to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Bradley Hand ITC TT-Bold"/>
              </a:rPr>
              <a:t>Traduisez...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m’avait conseillé de ne pas voyager seul la nu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m’a dit que tu as besoin d’a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m’a demandé de vous accompag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I had been advised not to travel alone at n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I’ve been told you need hel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I’ve been asked to go with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Bradley Hand ITC TT-Bold"/>
              </a:rPr>
              <a:t>What IS the Passive Voice?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In English and French, there are two “voices” in grammar: Active and Pass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In the Active Voice, someone does something. eg. The boy reads the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In the Passive Voice, something gets done by someone. eg. The book is read by the bo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The Direct Object of an Active sentence is the Subject of a Passive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Bradley Hand ITC TT-Bold"/>
              </a:rPr>
              <a:t>How to form the Passive Voice</a:t>
            </a:r>
            <a:endParaRPr b="0" lang="en-US" sz="36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In both English and French (yay, for once), the Passive uses a form of “to be” plus the Past Particip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The castle was built in the 15th centur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Le château était bâti au 15e sièc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The person/thing doing the action uses the preposition “by” in English; “par” in Fren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Thc castle was built by a noblema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Le château était bâti par un no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Bradley Hand ITC TT-Bold"/>
              </a:rPr>
              <a:t>However...</a:t>
            </a:r>
            <a:endParaRPr b="0" lang="en-US" sz="36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Yes, there’s always a “however”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In French, the PP has to agree, just like an adjec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a ville a été détruit</a:t>
            </a:r>
            <a:r>
              <a:rPr b="1" lang="en-GB" sz="2800" spc="-1" strike="noStrike">
                <a:solidFill>
                  <a:srgbClr val="ffffff"/>
                </a:solidFill>
                <a:latin typeface="Bradley Hand ITC TT-Bold"/>
              </a:rPr>
              <a:t>e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 pendant la guer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Also, for some verbs of emotion, you will see “de” instead of “par” - this is where we might use “of” in Engli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e prof était aimé de ses élè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Bradley Hand ITC TT-Bold"/>
              </a:rPr>
              <a:t>Can I use any tense with the Passive?</a:t>
            </a:r>
            <a:endParaRPr b="0" lang="en-US" sz="36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YES - you may form the Passive with any tense - note that you just get the right tense of </a:t>
            </a:r>
            <a:r>
              <a:rPr b="1" lang="en-GB" sz="2400" spc="-1" strike="noStrike">
                <a:solidFill>
                  <a:srgbClr val="ffffff"/>
                </a:solidFill>
                <a:latin typeface="Bradley Hand ITC TT-Bold"/>
              </a:rPr>
              <a:t>être,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then the PP folows as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Le lait est bu par le chat.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(Pres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          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était bu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(Imperf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              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a été bu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(Perf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             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avait été bu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(Pluperf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              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sera bu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(Fu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             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serait bu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(Conditional)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Bradley Hand ITC TT-Bold"/>
              </a:rPr>
              <a:t>Par exemple...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es menhirs ont été levé</a:t>
            </a:r>
            <a:r>
              <a:rPr b="1" lang="en-GB" sz="2800" spc="-1" strike="noStrike">
                <a:solidFill>
                  <a:srgbClr val="ffffff"/>
                </a:solidFill>
                <a:latin typeface="Bradley Hand ITC TT-Bold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 par les Bretons il y a longtem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73240" y="3033720"/>
            <a:ext cx="38098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Bradley Hand ITC TT-Bold"/>
              </a:rPr>
              <a:t>Un autre exemple...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e chanteur Jacques Brel était vraiment aimé de ses fans pendant les années soix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135400" y="2149560"/>
            <a:ext cx="38102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Bradley Hand ITC TT-Bold"/>
              </a:rPr>
              <a:t>Un autre exemple...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a ville de Brest a été presque totalement détruit</a:t>
            </a:r>
            <a:r>
              <a:rPr b="1" lang="en-GB" sz="2800" spc="-1" strike="noStrike">
                <a:solidFill>
                  <a:srgbClr val="ffffff"/>
                </a:solidFill>
                <a:latin typeface="Bradley Hand ITC TT-Bold"/>
              </a:rPr>
              <a:t>e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 pendant les bombardements de la deuxième guerre mondi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59280" y="1981080"/>
            <a:ext cx="2198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Bradley Hand ITC TT-Bold"/>
              </a:rPr>
              <a:t>Traduisez...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e traité a été signé par les deux gouvern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a Reine Élizabeth est respectée de tout le mo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Un tunnel sera construit l’année procha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The treaty has been signed by the 2 gover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Queen Elizabeth is respected by every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A tunnel will be built next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0:34:42Z</dcterms:created>
  <dc:creator>Julia Brown</dc:creator>
  <dc:description/>
  <dc:language>en-US</dc:language>
  <cp:lastModifiedBy>Ministry of Education</cp:lastModifiedBy>
  <dcterms:modified xsi:type="dcterms:W3CDTF">2009-10-13T00:17:23Z</dcterms:modified>
  <cp:revision>14</cp:revision>
  <dc:subject/>
  <dc:title>Le Passif</dc:title>
</cp:coreProperties>
</file>